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34.wmf" ContentType="image/x-wmf"/>
  <Override PartName="/ppt/media/image14.png" ContentType="image/png"/>
  <Override PartName="/ppt/media/image35.png" ContentType="image/png"/>
  <Override PartName="/ppt/media/image3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EC3-300E-461F-8EC6-9B99DAC6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4B2D-CB86-4F08-8B07-40FFA82A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2C5-D6E9-4957-A354-8AA77376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4F32-F3A0-4346-8D7D-82A2B899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9BB-3D07-4B3E-9AC1-645D4C50C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D951-EE2F-4AE2-904E-F6C197E7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6709-E4AA-4FD4-BB09-604AB20E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6500-F2DA-42F1-888C-1C7C0BE8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955-7120-4104-A1FC-D5463AB5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971-9EC8-43A4-A62A-9751379E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2A8-248C-4DC7-A484-5343BFFD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2D5-11E5-4D5E-970D-583D1203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F01-B15D-4B79-B933-4896EDBE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6EC4-D2EB-4424-92F4-60013B68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190A-9FD3-4BA3-8733-AF7A992F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28C-5A56-43E8-9359-F65F2B49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F44-5174-405A-8D74-90CAFA66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9DC-F3D1-49A1-B494-83EB68C2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9F6-9032-46C3-9435-C98272F3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BC2-AA63-4B29-B576-FBA96138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200-3D08-4F12-8EBB-D07CE96F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1A4-4EEF-4166-8362-D683B51C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AEEA-4E06-4D37-A7FC-C363E4D0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3C74-7AD6-4E43-8BC9-359A2E3E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F33-2C89-43DA-9E1B-DFF101DC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EB8-0016-4287-B26F-B38635B7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77E-78B8-40A8-A9EB-40E20473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377-9505-4C28-9226-5AA9DBFF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C0A-03DE-4BAD-BC77-4E57EF85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2CF0-6D46-4A30-81D1-498250DE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570-9DE5-4BFD-AF22-B6D1524E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0C6-1273-47F3-8C7A-6819CD30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8F3-05B0-41CA-AC50-F9081F4F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8AC-389A-46EA-AD5F-7C0D8CE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FDA-D6E6-4FD5-86CC-CFD116CA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18B-788E-45C1-9B1A-A7859870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BE6-57DE-468B-AF11-0EBF9DE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B1B-D779-4D70-BA48-3E7969E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736-7021-4897-BE16-538A778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666-385B-4155-BFC6-B389F51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936-21E7-4E4F-8DE1-033A6AF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4F5-5ADF-4024-BBB2-29358AD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B72-DDAD-42D4-8B35-C565715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2DB-1CB3-4EF6-88EA-5A8B206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988-8CF8-425C-B0EF-93C8AED1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ket.org/education/encyclomedi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lideshare.net/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slideboom.com/" TargetMode="External"/><Relationship Id="rId4" Type="http://schemas.openxmlformats.org/officeDocument/2006/relationships/image" Target="../media/image25.png"/><Relationship Id="rId5" Type="http://schemas.openxmlformats.org/officeDocument/2006/relationships/hyperlink" Target="http://www.slideshare.net/secret/3LP0pY2RClHLh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ket.org/lincoln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l.ket.org/scalecity/dino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T Online Resources and Web 2.0 Tool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Tou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world destination to find out  the history, geography and culture of more than 3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ce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country to see dance descriptions, video samples, role of dance in culture info., activities,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 a world of sounds with music descriptions, video/audio ex., role of music in culture, activities,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eachers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ense teacher’s guide, Dance ATK lesson plan PDFs, audio files, and more teac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member all the ATKS are supported by the companion website a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>
            <a:hlinkClick r:id="rId1"/>
          </p:cNvPr>
          <p:cNvSpPr/>
          <p:nvPr/>
        </p:nvSpPr>
        <p:spPr>
          <a:xfrm>
            <a:off x="2133720" y="631980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Toolkit  World of Music and Danc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2.0 Tools: Some Cav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828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copyright rules for sharing resource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of teachers’/students’ “Digital Dossi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Free vs. Pro levels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some 2.0 tools are blocked in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lmoore\Local Settings\Temporary Internet Files\Content.IE5\2WBPTWX7\MPj04392390000[1].jp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28600" y="274320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18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Instructional resources with a variety of software an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45720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312408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Rectangle 23">
            <a:hlinkClick r:id="rId1"/>
          </p:cNvPr>
          <p:cNvSpPr/>
          <p:nvPr/>
        </p:nvSpPr>
        <p:spPr>
          <a:xfrm>
            <a:off x="2057400" y="2819520"/>
            <a:ext cx="2362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586728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4648320" y="2819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be1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791320" y="1676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533520" y="1752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Box 39"/>
          <p:cNvSpPr/>
          <p:nvPr/>
        </p:nvSpPr>
        <p:spPr>
          <a:xfrm>
            <a:off x="3200400" y="175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2133720" y="29066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5867280" y="3973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46483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3200400" y="40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5720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4572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124080" y="38862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7" name="TextBox 50"/>
          <p:cNvSpPr/>
          <p:nvPr/>
        </p:nvSpPr>
        <p:spPr>
          <a:xfrm>
            <a:off x="3809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5791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Sharing Tool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1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5867280" y="5345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609480" y="5373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magnetis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5" name="Picture 6" descr="passion flower.jpg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Electromagnetism.wmv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918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world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1676520" y="16765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6095880" y="762120"/>
            <a:ext cx="1676520" cy="175248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752480"/>
              <a:gd name="textAreaBottom" fmla="*/ 1644120 h 1752480"/>
            </a:gdLst>
            <a:ahLst/>
            <a:rect l="textAreaLeft" t="textAreaTop" r="textAreaRight" b="textAreaBottom"/>
            <a:pathLst>
              <a:path w="21600" h="22578">
                <a:moveTo>
                  <a:pt x="0" y="0"/>
                </a:moveTo>
                <a:lnTo>
                  <a:pt x="21600" y="0"/>
                </a:lnTo>
                <a:lnTo>
                  <a:pt x="21600" y="22578"/>
                </a:lnTo>
                <a:lnTo>
                  <a:pt x="0" y="22578"/>
                </a:lnTo>
                <a:close/>
              </a:path>
              <a:path fill="lightenLess" w="21600" h="22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78">
                <a:moveTo>
                  <a:pt x="21600" y="0"/>
                </a:moveTo>
                <a:lnTo>
                  <a:pt x="21600" y="22578"/>
                </a:lnTo>
                <a:lnTo>
                  <a:pt x="20200" y="21179"/>
                </a:lnTo>
                <a:lnTo>
                  <a:pt x="20200" y="1400"/>
                </a:lnTo>
                <a:close/>
              </a:path>
              <a:path fill="darkenLess" w="21600" h="22578">
                <a:moveTo>
                  <a:pt x="21600" y="22578"/>
                </a:moveTo>
                <a:lnTo>
                  <a:pt x="0" y="22578"/>
                </a:lnTo>
                <a:lnTo>
                  <a:pt x="1400" y="21179"/>
                </a:lnTo>
                <a:lnTo>
                  <a:pt x="20200" y="21179"/>
                </a:lnTo>
                <a:close/>
              </a:path>
              <a:path fill="lighten" w="21600" h="22578">
                <a:moveTo>
                  <a:pt x="0" y="22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514600" y="3429000"/>
            <a:ext cx="914400" cy="15238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523880"/>
              <a:gd name="textAreaBottom" fmla="*/ 1464840 h 1523880"/>
            </a:gdLst>
            <a:ahLst/>
            <a:rect l="textAreaLeft" t="textAreaTop" r="textAreaRight" b="textAreaBottom"/>
            <a:pathLst>
              <a:path w="21600" h="35991">
                <a:moveTo>
                  <a:pt x="0" y="0"/>
                </a:moveTo>
                <a:lnTo>
                  <a:pt x="21600" y="0"/>
                </a:lnTo>
                <a:lnTo>
                  <a:pt x="21600" y="35991"/>
                </a:lnTo>
                <a:lnTo>
                  <a:pt x="0" y="35991"/>
                </a:lnTo>
                <a:close/>
              </a:path>
              <a:path fill="lightenLess" w="21600" h="35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1">
                <a:moveTo>
                  <a:pt x="21600" y="0"/>
                </a:moveTo>
                <a:lnTo>
                  <a:pt x="21600" y="35991"/>
                </a:lnTo>
                <a:lnTo>
                  <a:pt x="20200" y="34592"/>
                </a:lnTo>
                <a:lnTo>
                  <a:pt x="20200" y="1400"/>
                </a:lnTo>
                <a:close/>
              </a:path>
              <a:path fill="darkenLess" w="21600" h="35991">
                <a:moveTo>
                  <a:pt x="21600" y="35991"/>
                </a:moveTo>
                <a:lnTo>
                  <a:pt x="0" y="35991"/>
                </a:lnTo>
                <a:lnTo>
                  <a:pt x="1400" y="34592"/>
                </a:lnTo>
                <a:lnTo>
                  <a:pt x="20200" y="34592"/>
                </a:lnTo>
                <a:close/>
              </a:path>
              <a:path fill="lighten" w="21600" h="35991">
                <a:moveTo>
                  <a:pt x="0" y="35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191120" y="2514600"/>
            <a:ext cx="1218960" cy="18288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828800"/>
              <a:gd name="textAreaBottom" fmla="*/ 1749960 h 1828800"/>
            </a:gdLst>
            <a:ahLst/>
            <a:rect l="textAreaLeft" t="textAreaTop" r="textAreaRight" b="textAreaBottom"/>
            <a:pathLst>
              <a:path w="21600" h="32403">
                <a:moveTo>
                  <a:pt x="0" y="0"/>
                </a:moveTo>
                <a:lnTo>
                  <a:pt x="21600" y="0"/>
                </a:lnTo>
                <a:lnTo>
                  <a:pt x="21600" y="32403"/>
                </a:lnTo>
                <a:lnTo>
                  <a:pt x="0" y="32403"/>
                </a:lnTo>
                <a:close/>
              </a:path>
              <a:path fill="lightenLess" w="21600" h="32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3">
                <a:moveTo>
                  <a:pt x="21600" y="0"/>
                </a:moveTo>
                <a:lnTo>
                  <a:pt x="21600" y="32403"/>
                </a:lnTo>
                <a:lnTo>
                  <a:pt x="20200" y="31003"/>
                </a:lnTo>
                <a:lnTo>
                  <a:pt x="20200" y="1400"/>
                </a:lnTo>
                <a:close/>
              </a:path>
              <a:path fill="darkenLess" w="21600" h="32403">
                <a:moveTo>
                  <a:pt x="21600" y="32403"/>
                </a:moveTo>
                <a:lnTo>
                  <a:pt x="0" y="32403"/>
                </a:lnTo>
                <a:lnTo>
                  <a:pt x="1400" y="31003"/>
                </a:lnTo>
                <a:lnTo>
                  <a:pt x="20200" y="31003"/>
                </a:lnTo>
                <a:close/>
              </a:path>
              <a:path fill="lighten" w="21600" h="32403">
                <a:moveTo>
                  <a:pt x="0" y="32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800600" y="1066680"/>
            <a:ext cx="1219320" cy="106704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4682" h="21600">
                <a:moveTo>
                  <a:pt x="0" y="0"/>
                </a:moveTo>
                <a:lnTo>
                  <a:pt x="24682" y="0"/>
                </a:lnTo>
                <a:lnTo>
                  <a:pt x="24682" y="21600"/>
                </a:lnTo>
                <a:lnTo>
                  <a:pt x="0" y="21600"/>
                </a:lnTo>
                <a:close/>
              </a:path>
              <a:path fill="lightenLess" w="24682" h="21600">
                <a:moveTo>
                  <a:pt x="0" y="0"/>
                </a:moveTo>
                <a:lnTo>
                  <a:pt x="24682" y="0"/>
                </a:lnTo>
                <a:lnTo>
                  <a:pt x="23282" y="1400"/>
                </a:lnTo>
                <a:lnTo>
                  <a:pt x="1400" y="1400"/>
                </a:lnTo>
                <a:close/>
              </a:path>
              <a:path fill="darken" w="24682" h="21600">
                <a:moveTo>
                  <a:pt x="24682" y="0"/>
                </a:moveTo>
                <a:lnTo>
                  <a:pt x="24682" y="21600"/>
                </a:lnTo>
                <a:lnTo>
                  <a:pt x="23282" y="20200"/>
                </a:lnTo>
                <a:lnTo>
                  <a:pt x="23282" y="1400"/>
                </a:lnTo>
                <a:close/>
              </a:path>
              <a:path fill="darkenLess" w="24682" h="21600">
                <a:moveTo>
                  <a:pt x="24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2" y="20200"/>
                </a:lnTo>
                <a:close/>
              </a:path>
              <a:path fill="lighten" w="24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2860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0 Slide Sharing Sit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6320" y="2666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cret Codes!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362320" y="5176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lideBo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" y="3933720"/>
            <a:ext cx="9124920" cy="11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3200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lideshare.net/secret/3LP0pY2RClHLhl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ction Button: Custom 8">
            <a:hlinkClick r:id="rId5"/>
          </p:cNvPr>
          <p:cNvSpPr/>
          <p:nvPr/>
        </p:nvSpPr>
        <p:spPr>
          <a:xfrm>
            <a:off x="762120" y="312408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hare -  www.slideshare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09480" y="5140440"/>
            <a:ext cx="8001000" cy="164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905040"/>
            <a:ext cx="9142560" cy="366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ki- It’s not just for FaceBook and MySpace</a:t>
            </a: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819520" y="4572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voki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 Original Production Using EncycloMedia Cont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5907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 short movie created using “MovieMaker” which incorporates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6" name="Will_Lemurs.wmv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9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me KET Resource Integration Si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80880" y="491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4920" y="4292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80880" y="360684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9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228600" y="1752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Action Button: Custom 7">
            <a:hlinkClick r:id="rId2"/>
          </p:cNvPr>
          <p:cNvSpPr/>
          <p:nvPr/>
        </p:nvSpPr>
        <p:spPr>
          <a:xfrm>
            <a:off x="0" y="1752480"/>
            <a:ext cx="8534520" cy="609840"/>
          </a:xfrm>
          <a:custGeom>
            <a:avLst/>
            <a:gdLst>
              <a:gd name="textAreaLeft" fmla="*/ 39240 w 8534520"/>
              <a:gd name="textAreaRight" fmla="*/ 8495280 w 8534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02120" h="21600">
                <a:moveTo>
                  <a:pt x="0" y="0"/>
                </a:moveTo>
                <a:lnTo>
                  <a:pt x="302120" y="0"/>
                </a:lnTo>
                <a:lnTo>
                  <a:pt x="302120" y="21600"/>
                </a:lnTo>
                <a:lnTo>
                  <a:pt x="0" y="21600"/>
                </a:lnTo>
                <a:close/>
              </a:path>
              <a:path fill="lightenLess" w="302120" h="21600">
                <a:moveTo>
                  <a:pt x="0" y="0"/>
                </a:moveTo>
                <a:lnTo>
                  <a:pt x="302120" y="0"/>
                </a:lnTo>
                <a:lnTo>
                  <a:pt x="300720" y="1400"/>
                </a:lnTo>
                <a:lnTo>
                  <a:pt x="1400" y="1400"/>
                </a:lnTo>
                <a:close/>
              </a:path>
              <a:path fill="darken" w="302120" h="21600">
                <a:moveTo>
                  <a:pt x="302120" y="0"/>
                </a:moveTo>
                <a:lnTo>
                  <a:pt x="302120" y="21600"/>
                </a:lnTo>
                <a:lnTo>
                  <a:pt x="300720" y="20200"/>
                </a:lnTo>
                <a:lnTo>
                  <a:pt x="300720" y="1400"/>
                </a:lnTo>
                <a:close/>
              </a:path>
              <a:path fill="darkenLess" w="302120" h="21600">
                <a:moveTo>
                  <a:pt x="302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20" y="20200"/>
                </a:lnTo>
                <a:close/>
              </a:path>
              <a:path fill="lighten" w="302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8088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access the PowerPoint and other resources used in today’s workshop go to my wiki at the address below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8088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r more information regarding integrating KET resources check out these other KET consultants’ sit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Instructional Online Services Provided to Ky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subject-related web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Action Button: Custom 5">
            <a:hlinkClick r:id="rId2"/>
          </p:cNvPr>
          <p:cNvSpPr/>
          <p:nvPr/>
        </p:nvSpPr>
        <p:spPr>
          <a:xfrm>
            <a:off x="76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6" descr="lincoln-cartoon.gif"/>
          <p:cNvPicPr/>
          <p:nvPr/>
        </p:nvPicPr>
        <p:blipFill>
          <a:blip r:embed="rId3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0" y="1409760"/>
            <a:ext cx="3352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activ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of Sca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Shadow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Shadow Puppe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yside Up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al Ma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-0-ram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Video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ature Collec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ville Slugger Muse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Thea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Chicken Festival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osaur World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2280" y="6858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new website from KET centers on proportional reasoning with emphasis on scale and scaling designed for middle grades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327636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32763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209680"/>
            <a:ext cx="33303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ville Z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inary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Weath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ntist’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Coming this fall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Belle of Louisville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6320" y="2286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just a few of the field trips produced by KE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143000" y="6019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Action Button: Custom 6">
            <a:hlinkClick r:id="rId3"/>
          </p:cNvPr>
          <p:cNvSpPr/>
          <p:nvPr/>
        </p:nvSpPr>
        <p:spPr>
          <a:xfrm>
            <a:off x="2743200" y="609588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d11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dd11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6-16T10:09:31Z</dcterms:modified>
  <cp:revision>230</cp:revision>
  <dc:subject/>
  <dc:title>KET Online Resources and Web 2.0 tools</dc:title>
</cp:coreProperties>
</file>